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EDE-C7D3-4A31-B298-8C6EDEEC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9E1-538E-433A-B492-C8B5D72D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615-F6FB-4E9A-ABF1-3CE703EF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C68-3258-40CB-B502-0D6604EC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990-2599-4188-BE52-504086EE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902-C263-4214-B413-717A68CB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BB30-A4BD-4611-A33B-F619557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EC40-6F25-4967-AEC4-5AE6FF7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F64F-9158-41C1-A79C-C699AEA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216-F8C6-4E79-A9AD-5B25EDB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5754-DF06-4298-A003-172A44C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BDD-2A21-459A-987C-367883CD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62D-C54F-4469-88F7-62C25A2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2FF-9BD4-4DB8-9E8E-F9619D72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5B5A-0D01-4C1F-98A5-465DD690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A3F-2725-4D94-A823-A6EE93BF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2A6B-58C9-4B75-93DE-3AE13834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D8CEF-D39D-452C-AD5D-DD2A8CD1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2A7C7-1DD6-4464-B0F3-DEF1A21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3100C-5EF9-4569-8095-023322C3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5F4A2-7550-4272-8975-E9D5063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2F9CC-3007-4E0F-BB31-5A14BC0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DEC-2F36-4D80-ABF2-D6365B7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19A26-9576-4591-86BB-1D50D97D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591A6-0AF9-4F03-9AB0-F8BD842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EA90C-CE62-4810-B402-62E3A46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DAD31-2FF0-4D00-ACBF-714AFEF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3C9E0-477B-4B72-99DC-F6366B82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AE318-399B-4C7B-908C-F4AAFAE0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528E8-DF53-4A30-B42A-38B55777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E4FA-767B-4C2B-8DD9-8AF19BC8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E584-8EBF-4B0B-9ED3-3917FCD2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C2AD-9415-40D7-A76E-0D16BA89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0E6-9B0B-4183-8FEA-7AD8B3A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0AB8-3A59-424D-91F6-8FF361CE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A145-FF79-4CDB-910E-6643E806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4238-50C3-45A3-9BC2-EB91D7A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B0EC-FAD3-4380-ACD4-559AD5E9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8178-8242-4125-979D-8AB8A67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DBE1-0106-4A9C-BAC9-33F3426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AE82-E96C-4876-9088-699430BA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4163-E449-41A6-9823-30FE3509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173D-3A06-456B-AE1B-98B7520D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647-3A90-496B-A035-6C0178EB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95C-79D2-4FD0-8B4C-3F530EC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419-F095-4842-A15A-8F3DCC9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AAB-9D1F-42E5-8383-19260D63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916-A105-4462-92AA-B1FB0354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EEFA-BE31-4598-9969-AD69A09DD43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C3EC-1E9A-4F04-88B0-35049ADA0EE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EE1A-36DB-44F4-B24C-0865DD1B146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9322-DA14-442D-8DE1-915255446F7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f68"/>
                </a:solidFill>
                <a:latin typeface="Trebuchet MS"/>
              </a:rPr>
              <a:t>Ch. 23 Warm-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67652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the following information to help you answer the question bel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pulation = 1000 peo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A = 16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a = 48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a = 36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are the genotypic frequencies?  Allele frequenci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directional, stabilizing or disruptive selection to answer the follow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ice in the Arizona desert have either dark or light fur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ds produce 4-5 eggs per clu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verage human baby weighs 7 lbs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45520" indent="-498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rwin's finches and beak size during drought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itle 1"/>
          <p:cNvSpPr/>
          <p:nvPr/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wo main modes of sp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" descr="24_05AlloSymSpeciation-L.jpg"/>
          <p:cNvPicPr/>
          <p:nvPr/>
        </p:nvPicPr>
        <p:blipFill>
          <a:blip r:embed="rId1"/>
          <a:stretch/>
        </p:blipFill>
        <p:spPr>
          <a:xfrm>
            <a:off x="1600200" y="1371600"/>
            <a:ext cx="597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wo main modes of speciation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4920" y="1487520"/>
          <a:ext cx="4038480" cy="50990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llopatric Spec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other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r>
                        <a:rPr b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homeland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ographically </a:t>
                      </a: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isolated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opul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used by geologic events or proces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volves by natural selection &amp; genetic dri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g. Squirrels on N/S rims of Grand Cany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572000" y="1487520"/>
          <a:ext cx="4267080" cy="50814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030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ympatric Spec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together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r>
                        <a:rPr b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“</a:t>
                      </a:r>
                      <a:r>
                        <a:rPr b="1" i="1" lang="en-US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homeland</a:t>
                      </a:r>
                      <a:r>
                        <a:rPr b="1" lang="ja-JP" sz="1800" spc="-1" strike="noStrike">
                          <a:solidFill>
                            <a:srgbClr val="dedede"/>
                          </a:solidFill>
                          <a:latin typeface="Georgia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87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Overlapping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populations within home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11240">
                <a:tc>
                  <a:txBody>
                    <a:bodyPr lIns="90000" rIns="900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ne flow between subpopulations blocked by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lyploid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xual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bitat different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g. polyploidy in crops (oats, cotton, potatoes, whea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Allopatric speciation of antelope squirrels on opposite rims of the Grand Canyon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1" name="Picture 1" descr="24_06_AlloSpeciaGCanyon-L.jpg"/>
          <p:cNvPicPr/>
          <p:nvPr/>
        </p:nvPicPr>
        <p:blipFill>
          <a:blip r:embed="rId1"/>
          <a:stretch/>
        </p:blipFill>
        <p:spPr>
          <a:xfrm>
            <a:off x="914400" y="2209680"/>
            <a:ext cx="736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609480" y="2133720"/>
            <a:ext cx="8001000" cy="1901880"/>
            <a:chOff x="609480" y="2133720"/>
            <a:chExt cx="8001000" cy="1901880"/>
          </a:xfrm>
        </p:grpSpPr>
        <p:pic>
          <p:nvPicPr>
            <p:cNvPr id="253" name="Picture 30" descr="_x001b_24_08SympatSpeciation_U.jpg                                    0002377A&#10;CS1-Vol.07                     BD7D9C21:"/>
            <p:cNvPicPr/>
            <p:nvPr/>
          </p:nvPicPr>
          <p:blipFill>
            <a:blip r:embed="rId1"/>
            <a:srcRect l="0" t="43186" r="0" b="11860"/>
            <a:stretch/>
          </p:blipFill>
          <p:spPr>
            <a:xfrm>
              <a:off x="609480" y="2133720"/>
              <a:ext cx="8001000" cy="155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6"/>
            <p:cNvGrpSpPr/>
            <p:nvPr/>
          </p:nvGrpSpPr>
          <p:grpSpPr>
            <a:xfrm>
              <a:off x="901440" y="3356640"/>
              <a:ext cx="7094520" cy="678960"/>
              <a:chOff x="901440" y="3356640"/>
              <a:chExt cx="7094520" cy="678960"/>
            </a:xfrm>
          </p:grpSpPr>
          <p:sp>
            <p:nvSpPr>
              <p:cNvPr id="255" name="Text Box 26"/>
              <p:cNvSpPr/>
              <p:nvPr/>
            </p:nvSpPr>
            <p:spPr>
              <a:xfrm>
                <a:off x="901440" y="3521160"/>
                <a:ext cx="717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7"/>
              <p:cNvSpPr/>
              <p:nvPr/>
            </p:nvSpPr>
            <p:spPr>
              <a:xfrm>
                <a:off x="3057480" y="3669480"/>
                <a:ext cx="918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28"/>
              <p:cNvSpPr/>
              <p:nvPr/>
            </p:nvSpPr>
            <p:spPr>
              <a:xfrm>
                <a:off x="7465320" y="3693240"/>
                <a:ext cx="5306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29"/>
              <p:cNvSpPr/>
              <p:nvPr/>
            </p:nvSpPr>
            <p:spPr>
              <a:xfrm>
                <a:off x="5334480" y="3356640"/>
                <a:ext cx="5306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2514600" y="403848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utopolyploid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ympatric Speciation by Polyploid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utopolyploi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extra sets of chrom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Failure of cell division (2n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4n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Eg. Strawberries are 4n, 6n, 8n, 10n (decaploid)!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llopolyploi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2 species produce a hybr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Species A (2n=6) + Species B (2n=4)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Hybrid (2n=10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115920" y="4560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24_11Allopolyploidy_4-L.jpg"/>
          <p:cNvPicPr/>
          <p:nvPr/>
        </p:nvPicPr>
        <p:blipFill>
          <a:blip r:embed="rId1"/>
          <a:stretch/>
        </p:blipFill>
        <p:spPr>
          <a:xfrm>
            <a:off x="2822400" y="-58680"/>
            <a:ext cx="6321600" cy="6916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2819520"/>
            <a:ext cx="3629160" cy="12952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Allopolyploid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Diagram 3" descr=""/>
          <p:cNvPicPr/>
          <p:nvPr/>
        </p:nvPicPr>
        <p:blipFill>
          <a:blip r:embed="rId1"/>
          <a:stretch/>
        </p:blipFill>
        <p:spPr>
          <a:xfrm>
            <a:off x="517680" y="298440"/>
            <a:ext cx="8261280" cy="1079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228600" y="14475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y new species arise from a single common ances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curs whe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3760" indent="-51408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A few organisms make way to new, distant areas (allopatric speciation)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23760" indent="-51408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Environmental change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extinctions </a:t>
            </a:r>
            <a:r>
              <a:rPr b="0" lang="en-US" sz="28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new niches for survivor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g. Hawaiian archepela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7" name="Group 14"/>
          <p:cNvGrpSpPr/>
          <p:nvPr/>
        </p:nvGrpSpPr>
        <p:grpSpPr>
          <a:xfrm>
            <a:off x="5714640" y="4191120"/>
            <a:ext cx="2667240" cy="2412720"/>
            <a:chOff x="5714640" y="4191120"/>
            <a:chExt cx="2667240" cy="2412720"/>
          </a:xfrm>
        </p:grpSpPr>
        <p:sp>
          <p:nvSpPr>
            <p:cNvPr id="268" name="Right Arrow 6"/>
            <p:cNvSpPr/>
            <p:nvPr/>
          </p:nvSpPr>
          <p:spPr>
            <a:xfrm>
              <a:off x="7515360" y="5295960"/>
              <a:ext cx="866520" cy="261720"/>
            </a:xfrm>
            <a:prstGeom prst="rightArrow">
              <a:avLst>
                <a:gd name="adj1" fmla="val 50000"/>
                <a:gd name="adj2" fmla="val 51012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ight Arrow 7"/>
            <p:cNvSpPr/>
            <p:nvPr/>
          </p:nvSpPr>
          <p:spPr>
            <a:xfrm rot="10800000">
              <a:off x="5714640" y="5295600"/>
              <a:ext cx="933480" cy="261720"/>
            </a:xfrm>
            <a:prstGeom prst="rightArrow">
              <a:avLst>
                <a:gd name="adj1" fmla="val 50000"/>
                <a:gd name="adj2" fmla="val 51024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ight Arrow 8"/>
            <p:cNvSpPr/>
            <p:nvPr/>
          </p:nvSpPr>
          <p:spPr>
            <a:xfrm rot="5400000">
              <a:off x="6526080" y="588168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ight Arrow 9"/>
            <p:cNvSpPr/>
            <p:nvPr/>
          </p:nvSpPr>
          <p:spPr>
            <a:xfrm rot="3109800">
              <a:off x="7002360" y="570528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ight Arrow 10"/>
            <p:cNvSpPr/>
            <p:nvPr/>
          </p:nvSpPr>
          <p:spPr>
            <a:xfrm rot="13545000">
              <a:off x="5908320" y="4890600"/>
              <a:ext cx="1174680" cy="266400"/>
            </a:xfrm>
            <a:prstGeom prst="rightArrow">
              <a:avLst>
                <a:gd name="adj1" fmla="val 50000"/>
                <a:gd name="adj2" fmla="val 49096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ight Arrow 11"/>
            <p:cNvSpPr/>
            <p:nvPr/>
          </p:nvSpPr>
          <p:spPr>
            <a:xfrm rot="7551000">
              <a:off x="5984280" y="578196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ight Arrow 12"/>
            <p:cNvSpPr/>
            <p:nvPr/>
          </p:nvSpPr>
          <p:spPr>
            <a:xfrm rot="19470000">
              <a:off x="7014960" y="4829040"/>
              <a:ext cx="1200240" cy="261720"/>
            </a:xfrm>
            <a:prstGeom prst="rightArrow">
              <a:avLst>
                <a:gd name="adj1" fmla="val 50000"/>
                <a:gd name="adj2" fmla="val 51019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ight Arrow 13"/>
            <p:cNvSpPr/>
            <p:nvPr/>
          </p:nvSpPr>
          <p:spPr>
            <a:xfrm rot="16200000">
              <a:off x="6494400" y="4646880"/>
              <a:ext cx="1177920" cy="266400"/>
            </a:xfrm>
            <a:prstGeom prst="rightArrow">
              <a:avLst>
                <a:gd name="adj1" fmla="val 50000"/>
                <a:gd name="adj2" fmla="val 49088"/>
              </a:avLst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"/>
            <p:cNvSpPr/>
            <p:nvPr/>
          </p:nvSpPr>
          <p:spPr>
            <a:xfrm>
              <a:off x="6315120" y="4641840"/>
              <a:ext cx="1600200" cy="1569960"/>
            </a:xfrm>
            <a:prstGeom prst="ellipse">
              <a:avLst/>
            </a:prstGeom>
            <a:solidFill>
              <a:srgbClr val="535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Founding 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9"/>
          <p:cNvGrpSpPr/>
          <p:nvPr/>
        </p:nvGrpSpPr>
        <p:grpSpPr>
          <a:xfrm>
            <a:off x="762120" y="1327320"/>
            <a:ext cx="7545240" cy="5454360"/>
            <a:chOff x="762120" y="1327320"/>
            <a:chExt cx="7545240" cy="5454360"/>
          </a:xfrm>
        </p:grpSpPr>
        <p:pic>
          <p:nvPicPr>
            <p:cNvPr id="278" name="Picture 21" descr="_x001e_24_12AdaptiveRadiation_CNL.jpg                                 0002377A&#10;CS1-Vol.07                     BD7D9C21:"/>
            <p:cNvPicPr/>
            <p:nvPr/>
          </p:nvPicPr>
          <p:blipFill>
            <a:blip r:embed="rId1"/>
            <a:stretch/>
          </p:blipFill>
          <p:spPr>
            <a:xfrm>
              <a:off x="762120" y="1327320"/>
              <a:ext cx="7545240" cy="54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4"/>
            <p:cNvSpPr/>
            <p:nvPr/>
          </p:nvSpPr>
          <p:spPr>
            <a:xfrm>
              <a:off x="3258360" y="3308760"/>
              <a:ext cx="52452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AU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3889800" y="3654000"/>
              <a:ext cx="52452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AH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5425200" y="4246200"/>
              <a:ext cx="52452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WAI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5105520" y="2895480"/>
              <a:ext cx="446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ll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4723560" y="3412440"/>
              <a:ext cx="50220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4313880" y="3317040"/>
              <a:ext cx="55008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LOK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4280040" y="3763440"/>
              <a:ext cx="50220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N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5972400" y="3712680"/>
              <a:ext cx="16668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rgyroxiphium sandw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6898680" y="649152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linear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797280" y="6384600"/>
              <a:ext cx="94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scab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914760" y="5711040"/>
              <a:ext cx="11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waialeala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1189800" y="2994120"/>
              <a:ext cx="11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ubautia lax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 rot="20553000">
              <a:off x="4661640" y="2112840"/>
              <a:ext cx="11772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Adaptive Radi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Hawaiian plants descended from ancestral tarweed from North America 5 million years a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ybrid Zo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1294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omplete reproductive barri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sible outcomes: reinforcement, fusion, st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5" name="Picture 7" descr="24_14HybrZoneOverTime_4-L.jpg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2651040" y="3962520"/>
            <a:ext cx="4402080" cy="5260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876920" y="1143000"/>
            <a:ext cx="37638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8" name="Picture 4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7782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9" name="TextBox 5"/>
          <p:cNvSpPr/>
          <p:nvPr/>
        </p:nvSpPr>
        <p:spPr>
          <a:xfrm>
            <a:off x="380880" y="4572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lar” or “Pizz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447920" y="619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zz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56386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84280" y="127080"/>
            <a:ext cx="787392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24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e Origin of Spec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1" descr="24_02bBioSpeciesConcept-L.jpg"/>
          <p:cNvPicPr/>
          <p:nvPr/>
        </p:nvPicPr>
        <p:blipFill>
          <a:blip r:embed="rId1"/>
          <a:stretch/>
        </p:blipFill>
        <p:spPr>
          <a:xfrm>
            <a:off x="3809880" y="762120"/>
            <a:ext cx="504036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167652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Gradual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mmon ances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low, constant chan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95680" y="1676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unctuated Equilib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ldridge &amp; Goul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Long period of stasis punctuated by short bursts of significant chan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609480"/>
            <a:ext cx="8229600" cy="865440"/>
            <a:chOff x="457200" y="609480"/>
            <a:chExt cx="8229600" cy="865440"/>
          </a:xfrm>
        </p:grpSpPr>
        <p:sp>
          <p:nvSpPr>
            <p:cNvPr id="306" name="Rounded Rectangle 7"/>
            <p:cNvSpPr/>
            <p:nvPr/>
          </p:nvSpPr>
          <p:spPr>
            <a:xfrm>
              <a:off x="457200" y="609480"/>
              <a:ext cx="8229600" cy="86544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ounded Rectangle 4"/>
            <p:cNvSpPr/>
            <p:nvPr/>
          </p:nvSpPr>
          <p:spPr>
            <a:xfrm>
              <a:off x="500040" y="652320"/>
              <a:ext cx="8143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141120" tIns="141120" bIns="141120" anchor="ctr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Georgia"/>
                </a:rPr>
                <a:t>Tempo of Evolution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5" descr="outil_bleu09_img02"/>
          <p:cNvPicPr/>
          <p:nvPr/>
        </p:nvPicPr>
        <p:blipFill>
          <a:blip r:embed="rId1"/>
          <a:stretch/>
        </p:blipFill>
        <p:spPr>
          <a:xfrm>
            <a:off x="1066680" y="4100400"/>
            <a:ext cx="67820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24_17SpeciationTempo-L.jpg"/>
          <p:cNvPicPr/>
          <p:nvPr/>
        </p:nvPicPr>
        <p:blipFill>
          <a:blip r:embed="rId1"/>
          <a:stretch/>
        </p:blipFill>
        <p:spPr>
          <a:xfrm>
            <a:off x="291960" y="1130400"/>
            <a:ext cx="85471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You Need to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difference between microevolution and macroevolu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biological concept of a spec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zygotic and postzygotic barriers that maintain reproductive isolation in natural populait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allopatric and sympatric speciation are similar and differ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autopolyploid or an allopolyploid chromosomal change can lead to sympatric speci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punctuated equilibrium and gradualism describe two different tempos of speci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4456"/>
                </a:solidFill>
                <a:uFillTx/>
                <a:latin typeface="Trebuchet MS"/>
              </a:rPr>
              <a:t>Speciation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= origin of spec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639440"/>
            <a:ext cx="883908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icroev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changes within a single gene p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croev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evolutionary change above the species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umulative effects of speciation over long periods of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3" name="Picture 2" descr="24_02aBioSpeciesConcept-L.jpg"/>
          <p:cNvPicPr/>
          <p:nvPr/>
        </p:nvPicPr>
        <p:blipFill>
          <a:blip r:embed="rId1"/>
          <a:stretch/>
        </p:blipFill>
        <p:spPr>
          <a:xfrm>
            <a:off x="2362320" y="3581280"/>
            <a:ext cx="5473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Diagram 3" descr=""/>
          <p:cNvPicPr/>
          <p:nvPr/>
        </p:nvPicPr>
        <p:blipFill>
          <a:blip r:embed="rId1"/>
          <a:stretch/>
        </p:blipFill>
        <p:spPr>
          <a:xfrm>
            <a:off x="444600" y="1127160"/>
            <a:ext cx="8254800" cy="1085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peci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population or group of populations whose members have the potential to interbreed in nature and produce viable, fertile offsp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oductively compatib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Reproductive isol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barriers that prevent members of 2 species from producing viable, fertile hybri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Diagram 7" descr=""/>
          <p:cNvPicPr/>
          <p:nvPr/>
        </p:nvPicPr>
        <p:blipFill>
          <a:blip r:embed="rId1"/>
          <a:stretch/>
        </p:blipFill>
        <p:spPr>
          <a:xfrm>
            <a:off x="444600" y="828720"/>
            <a:ext cx="8254800" cy="1085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9810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ezygotic Barri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Impede mating/fertiliz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Habitat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Temporal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Behavioral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Mechanical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Gametic isol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20574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ostzygotic Barri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Prevent hybrid zygote from developing into viable adult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Reduced hybrid viabilit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Reduced hybrid fertilit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Hybrid breakdow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2368440" y="5303880"/>
            <a:ext cx="1325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164120" y="5305320"/>
            <a:ext cx="1325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ERT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689440" y="5370480"/>
            <a:ext cx="1444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57200" y="0"/>
            <a:ext cx="8229600" cy="762120"/>
            <a:chOff x="457200" y="0"/>
            <a:chExt cx="8229600" cy="762120"/>
          </a:xfrm>
        </p:grpSpPr>
        <p:sp>
          <p:nvSpPr>
            <p:cNvPr id="233" name="Rounded Rectangle 28"/>
            <p:cNvSpPr/>
            <p:nvPr/>
          </p:nvSpPr>
          <p:spPr>
            <a:xfrm>
              <a:off x="457200" y="0"/>
              <a:ext cx="8229600" cy="76212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ounded Rectangle 4"/>
            <p:cNvSpPr/>
            <p:nvPr/>
          </p:nvSpPr>
          <p:spPr>
            <a:xfrm>
              <a:off x="507960" y="36360"/>
              <a:ext cx="812808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eorgia"/>
                </a:rPr>
                <a:t>Types of Reproductive Barri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" descr="24_03_bReproBarriers-L.jpg"/>
          <p:cNvPicPr/>
          <p:nvPr/>
        </p:nvPicPr>
        <p:blipFill>
          <a:blip r:embed="rId1"/>
          <a:stretch/>
        </p:blipFill>
        <p:spPr>
          <a:xfrm>
            <a:off x="291960" y="990720"/>
            <a:ext cx="879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2368440" y="5303880"/>
            <a:ext cx="1325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164120" y="5305320"/>
            <a:ext cx="1325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DUCED HYB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ERT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689440" y="5370480"/>
            <a:ext cx="14446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7"/>
          <p:cNvGrpSpPr/>
          <p:nvPr/>
        </p:nvGrpSpPr>
        <p:grpSpPr>
          <a:xfrm>
            <a:off x="457200" y="0"/>
            <a:ext cx="8229600" cy="762120"/>
            <a:chOff x="457200" y="0"/>
            <a:chExt cx="8229600" cy="762120"/>
          </a:xfrm>
        </p:grpSpPr>
        <p:sp>
          <p:nvSpPr>
            <p:cNvPr id="240" name="Rounded Rectangle 28"/>
            <p:cNvSpPr/>
            <p:nvPr/>
          </p:nvSpPr>
          <p:spPr>
            <a:xfrm>
              <a:off x="457200" y="0"/>
              <a:ext cx="8229600" cy="762120"/>
            </a:xfrm>
            <a:prstGeom prst="roundRect">
              <a:avLst>
                <a:gd name="adj" fmla="val 16667"/>
              </a:avLst>
            </a:prstGeom>
            <a:solidFill>
              <a:srgbClr val="53548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ounded Rectangle 4"/>
            <p:cNvSpPr/>
            <p:nvPr/>
          </p:nvSpPr>
          <p:spPr>
            <a:xfrm>
              <a:off x="507960" y="36360"/>
              <a:ext cx="812808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eorgia"/>
                </a:rPr>
                <a:t>Types of Reproductive Barri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" descr="24_03_cReproBarriers-L.jpg"/>
          <p:cNvPicPr/>
          <p:nvPr/>
        </p:nvPicPr>
        <p:blipFill>
          <a:blip r:embed="rId1"/>
          <a:stretch/>
        </p:blipFill>
        <p:spPr>
          <a:xfrm>
            <a:off x="1523880" y="838080"/>
            <a:ext cx="586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ther definitions of species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2209680"/>
            <a:ext cx="7848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Morphologic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by body shape, size, and other structural featur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Ecologic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niche/role in communit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Phylogenetic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share common ancestry, branch on tree of lif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38:16Z</dcterms:created>
  <dc:creator>Chris Nancy Chou</dc:creator>
  <dc:description/>
  <dc:language>en-US</dc:language>
  <cp:lastModifiedBy>local</cp:lastModifiedBy>
  <dcterms:modified xsi:type="dcterms:W3CDTF">2014-02-12T21:56:57Z</dcterms:modified>
  <cp:revision>49</cp:revision>
  <dc:subject/>
  <dc:title>Chapter 23</dc:title>
</cp:coreProperties>
</file>